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E5C6-7B65-406F-8878-F5637843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BBA0-AC39-412F-B4FA-BC59651D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9E7B-46A0-4F88-BD70-4643C419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B373-FC75-4CE6-AF73-5B3C62B6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3553-C5B5-482C-9705-ED797EDA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670F-9CCB-4ACA-BC69-1A58FACB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54E5-2A9E-418A-B7B8-1397E1EA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D4EB-9C5D-4FD3-B67D-E88277A3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9835-E358-47FB-BEFB-EFE4B80A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A2A8-02EA-450E-A282-46FA782C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236A-8418-4A66-B8AF-1213B1A3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AF94-337B-48D6-9185-DD6D82CA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6FE7-2CCB-4D61-9391-CC6C8A482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718080"/>
            <a:ext cx="4587840" cy="31399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56160" y="3718080"/>
            <a:ext cx="4587840" cy="3139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9480"/>
            <a:ext cx="4587840" cy="31402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56160" y="609480"/>
            <a:ext cx="4587840" cy="3140280"/>
          </a:xfrm>
          <a:prstGeom prst="rect">
            <a:avLst/>
          </a:prstGeom>
          <a:solidFill>
            <a:srgbClr val="ff5b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717560" y="3209760"/>
            <a:ext cx="1158840" cy="655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663560" y="3674520"/>
            <a:ext cx="1260720" cy="5634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 rot="5400000">
            <a:off x="4448880" y="1689840"/>
            <a:ext cx="790560" cy="9572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 rot="5400000">
            <a:off x="3840120" y="1754280"/>
            <a:ext cx="858960" cy="823680"/>
          </a:xfrm>
          <a:prstGeom prst="ellipse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76960" y="3627360"/>
            <a:ext cx="1149480" cy="654120"/>
          </a:xfrm>
          <a:prstGeom prst="ellipse">
            <a:avLst/>
          </a:prstGeom>
          <a:solidFill>
            <a:srgbClr val="ff5b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27640" y="3254400"/>
            <a:ext cx="1252800" cy="563400"/>
          </a:xfrm>
          <a:prstGeom prst="ellipse">
            <a:avLst/>
          </a:prstGeom>
          <a:solidFill>
            <a:srgbClr val="ff5b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 rot="16200000">
            <a:off x="3882240" y="4805280"/>
            <a:ext cx="784080" cy="958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 rot="16200000">
            <a:off x="4415760" y="4869360"/>
            <a:ext cx="857160" cy="8319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21118" b="-7393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934320" y="1471680"/>
            <a:ext cx="979200" cy="188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403960" y="1197000"/>
            <a:ext cx="1454040" cy="1165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084640" y="2624040"/>
            <a:ext cx="1630440" cy="1003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8013600" y="2286000"/>
            <a:ext cx="9730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2054160" y="2362320"/>
            <a:ext cx="599040" cy="755640"/>
            <a:chOff x="2054160" y="2362320"/>
            <a:chExt cx="599040" cy="755640"/>
          </a:xfrm>
        </p:grpSpPr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2054160" y="2362320"/>
              <a:ext cx="539640" cy="69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2062440" y="2841480"/>
              <a:ext cx="5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TK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152280" y="3252960"/>
            <a:ext cx="1370160" cy="404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384120" y="2795760"/>
            <a:ext cx="1521000" cy="404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3798720" y="2293920"/>
            <a:ext cx="544680" cy="601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>
            <a:off x="2975040" y="3252960"/>
            <a:ext cx="1390680" cy="40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1"/>
          <a:stretch/>
        </p:blipFill>
        <p:spPr>
          <a:xfrm>
            <a:off x="142920" y="2286000"/>
            <a:ext cx="799920" cy="27612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1066680" y="2197080"/>
            <a:ext cx="957960" cy="546120"/>
            <a:chOff x="1066680" y="2197080"/>
            <a:chExt cx="957960" cy="546120"/>
          </a:xfrm>
        </p:grpSpPr>
        <p:pic>
          <p:nvPicPr>
            <p:cNvPr id="67" name="" descr=""/>
            <p:cNvPicPr/>
            <p:nvPr/>
          </p:nvPicPr>
          <p:blipFill>
            <a:blip r:embed="rId12"/>
            <a:stretch/>
          </p:blipFill>
          <p:spPr>
            <a:xfrm>
              <a:off x="1066680" y="2197080"/>
              <a:ext cx="91944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530000" y="2306520"/>
              <a:ext cx="49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2876400" y="2590920"/>
            <a:ext cx="568440" cy="582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/>
          <a:stretch/>
        </p:blipFill>
        <p:spPr>
          <a:xfrm>
            <a:off x="2666880" y="2209680"/>
            <a:ext cx="920880" cy="327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5"/>
          <a:stretch/>
        </p:blipFill>
        <p:spPr>
          <a:xfrm>
            <a:off x="142920" y="1596960"/>
            <a:ext cx="1565280" cy="460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5880" y="76212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GNOME Mobile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52480" y="16668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gnome.org/mobil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69120" y="76212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ercial Dev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160" y="380988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Incub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69840" y="3809880"/>
            <a:ext cx="171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Consid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81080" y="4648320"/>
            <a:ext cx="912240" cy="1067760"/>
            <a:chOff x="181080" y="4648320"/>
            <a:chExt cx="912240" cy="1067760"/>
          </a:xfrm>
        </p:grpSpPr>
        <p:pic>
          <p:nvPicPr>
            <p:cNvPr id="78" name="" descr=""/>
            <p:cNvPicPr/>
            <p:nvPr/>
          </p:nvPicPr>
          <p:blipFill>
            <a:blip r:embed="rId16"/>
            <a:stretch/>
          </p:blipFill>
          <p:spPr>
            <a:xfrm>
              <a:off x="252360" y="4648320"/>
              <a:ext cx="799560" cy="7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81080" y="5409000"/>
              <a:ext cx="91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oCl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" descr=""/>
          <p:cNvPicPr/>
          <p:nvPr/>
        </p:nvPicPr>
        <p:blipFill>
          <a:blip r:embed="rId17"/>
          <a:stretch/>
        </p:blipFill>
        <p:spPr>
          <a:xfrm>
            <a:off x="1271520" y="5221440"/>
            <a:ext cx="1285920" cy="555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4240" y="5989680"/>
            <a:ext cx="316332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Kit – Disks, Power, Pulse Audio u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8"/>
          <a:stretch/>
        </p:blipFill>
        <p:spPr>
          <a:xfrm>
            <a:off x="1422360" y="4425840"/>
            <a:ext cx="2330640" cy="501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9"/>
          <a:stretch/>
        </p:blipFill>
        <p:spPr>
          <a:xfrm>
            <a:off x="4695840" y="4603680"/>
            <a:ext cx="1609560" cy="866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0"/>
          <a:stretch/>
        </p:blipFill>
        <p:spPr>
          <a:xfrm>
            <a:off x="2728800" y="5708520"/>
            <a:ext cx="1609920" cy="428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601680" y="49528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va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1"/>
          <a:stretch/>
        </p:blipFill>
        <p:spPr>
          <a:xfrm>
            <a:off x="7588080" y="5442120"/>
            <a:ext cx="1209960" cy="657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2"/>
          <a:stretch/>
        </p:blipFill>
        <p:spPr>
          <a:xfrm>
            <a:off x="5559480" y="5724360"/>
            <a:ext cx="1377720" cy="1133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083080" y="4518000"/>
            <a:ext cx="77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9:09:43Z</dcterms:created>
  <dc:creator>Bharat Kapoor</dc:creator>
  <dc:description/>
  <dc:language>en-US</dc:language>
  <cp:lastModifiedBy>Bharat Kapoor</cp:lastModifiedBy>
  <dcterms:modified xsi:type="dcterms:W3CDTF">2009-09-08T19:42:09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16264193</vt:r8>
  </property>
  <property fmtid="{D5CDD505-2E9C-101B-9397-08002B2CF9AE}" pid="3" name="_AuthorEmail">
    <vt:lpwstr>Kapoor@motorola.com</vt:lpwstr>
  </property>
  <property fmtid="{D5CDD505-2E9C-101B-9397-08002B2CF9AE}" pid="4" name="_AuthorEmailDisplayName">
    <vt:lpwstr>Kapoor Bharat-bkapoor</vt:lpwstr>
  </property>
  <property fmtid="{D5CDD505-2E9C-101B-9397-08002B2CF9AE}" pid="5" name="_EmailSubject">
    <vt:lpwstr>Brochure</vt:lpwstr>
  </property>
  <property fmtid="{D5CDD505-2E9C-101B-9397-08002B2CF9AE}" pid="6" name="_NewReviewCycle">
    <vt:lpwstr/>
  </property>
</Properties>
</file>